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AA89E-05B2-4E4E-B6E6-8FB8754C4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E2B9F8-EEA3-48DA-99A9-43EE13FFA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A4CF2-762B-49D0-8743-2B1DD84A3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13442-778A-4B6A-931B-C1ABB2EE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94988-B51A-467C-9918-24B5D807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63899C-9A43-4A10-AB17-C94395CC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42ADE-91F4-4A67-B280-9B5E17E7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83392-5C3C-467C-9331-8B8F948EB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605B1-E0C9-4E60-BE52-9D7CD15D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7E61D-6206-454D-8FBD-9C9C54A32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DE76F-98A8-4AA5-B290-30F61AD8C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9D74B-E902-4BEA-A814-C84FEEB32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1E271-BE53-4363-89E1-8DDC2E6879C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prstGeom prst="pie">
                <a:avLst/>
              </a:pr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prstGeom prst="pie">
                <a:avLst/>
              </a:pr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prstGeom prst="pie">
                <a:avLst/>
              </a:pr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prstGeom prst="pie">
                <a:avLst/>
              </a:pr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prstGeom prst="pie">
              <a:avLst/>
            </a:pr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prstGeom prst="pie">
              <a:avLst/>
            </a:pr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11 Апреля 2009 - Официальный сайт школы 725"/>
          <p:cNvPicPr/>
          <p:nvPr/>
        </p:nvPicPr>
        <p:blipFill>
          <a:blip r:embed="rId1"/>
          <a:stretch/>
        </p:blipFill>
        <p:spPr>
          <a:xfrm>
            <a:off x="30240" y="88920"/>
            <a:ext cx="9113760" cy="67690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685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e5e5ff"/>
                </a:solidFill>
                <a:latin typeface="Garamond"/>
              </a:rPr>
              <a:t>Природные ресурсы </a:t>
            </a:r>
            <a:br>
              <a:rPr sz="5400"/>
            </a:b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меним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это природные ресурсы, которые можно заменить сейчас или в будущем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мер: топливно-минеральные энергоресурсы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7" name="Picture 4" descr="coal"/>
          <p:cNvPicPr/>
          <p:nvPr/>
        </p:nvPicPr>
        <p:blipFill>
          <a:blip r:embed="rId1"/>
          <a:stretch/>
        </p:blipFill>
        <p:spPr>
          <a:xfrm>
            <a:off x="3352680" y="3238560"/>
            <a:ext cx="579132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заменим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природные ресурсы, которые нельзя заменить другими ресурсам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воздух, вода, генетический фонд живого мир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0" name="Picture 4" descr="0_454d_d3aefea6_XL"/>
          <p:cNvPicPr/>
          <p:nvPr/>
        </p:nvPicPr>
        <p:blipFill>
          <a:blip r:embed="rId1"/>
          <a:srcRect l="0" t="6073" r="0" b="5610"/>
          <a:stretch/>
        </p:blipFill>
        <p:spPr>
          <a:xfrm>
            <a:off x="3429000" y="3257640"/>
            <a:ext cx="57150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счерпаем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- это природные ресурсы, количество которых ограничено: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а) возобновимые -способные к быстрому восстановлению;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б) относительно возобновимые - способные к восстановлению за более длительный срок;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в) невозобновимые - совершенно не восстанавливаются</a:t>
            </a:r>
            <a:br>
              <a:rPr sz="2700"/>
            </a:b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или скорость их восстановления настолько мала, что использование их человеком становится невозможным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Пример: животный мир, растительность, грибы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Плодородие почв, деревья большого возраста (баобаб, секвойя)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Garamond"/>
              </a:rPr>
              <a:t>Ископаемое сырье, энергоносители (уголь, нефть и другие полезные ископаемые). </a:t>
            </a:r>
            <a:endParaRPr b="0" lang="en-US" sz="27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еисчерпаем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природные ресурсы, ко­личество которых не ограничено в процессе длительного природопользования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энергия воды, ветра, энергия земных недр, солнечная энергия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5" name="Picture 4" descr="30"/>
          <p:cNvPicPr/>
          <p:nvPr/>
        </p:nvPicPr>
        <p:blipFill>
          <a:blip r:embed="rId1"/>
          <a:srcRect l="0" t="0" r="0" b="8347"/>
          <a:stretch/>
        </p:blipFill>
        <p:spPr>
          <a:xfrm>
            <a:off x="5726160" y="3581280"/>
            <a:ext cx="3417840" cy="3276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arquitectura_y_calentamiento_global_090608_fig18"/>
          <p:cNvPicPr/>
          <p:nvPr/>
        </p:nvPicPr>
        <p:blipFill>
          <a:blip r:embed="rId2"/>
          <a:stretch/>
        </p:blipFill>
        <p:spPr>
          <a:xfrm>
            <a:off x="0" y="4127400"/>
            <a:ext cx="434340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Минера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совокупность запасов полезных ископаемых, пригодных для использова­ния в различных отраслях экономик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топливные, рудные, нерудные, химические, стройматериалы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89" name="Picture 4" descr="color358_1"/>
          <p:cNvPicPr/>
          <p:nvPr/>
        </p:nvPicPr>
        <p:blipFill>
          <a:blip r:embed="rId1"/>
          <a:stretch/>
        </p:blipFill>
        <p:spPr>
          <a:xfrm>
            <a:off x="3733920" y="3605040"/>
            <a:ext cx="5410080" cy="32529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2"/>
          <p:cNvPicPr/>
          <p:nvPr/>
        </p:nvPicPr>
        <p:blipFill>
          <a:blip r:embed="rId2"/>
          <a:stretch/>
        </p:blipFill>
        <p:spPr>
          <a:xfrm>
            <a:off x="0" y="3951360"/>
            <a:ext cx="3124080" cy="29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еме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876312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все ресурсы, входящие в структуру Мирового земельного фонда (непродуктивные земли, обрабатываемые земли, луга, леса, земли населенных пунктов)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леса, поля, луга, пастбища, пустыни, болота, территории под городами, деревням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" name="Picture 4" descr="kartinki-super721"/>
          <p:cNvPicPr/>
          <p:nvPr/>
        </p:nvPicPr>
        <p:blipFill>
          <a:blip r:embed="rId1"/>
          <a:srcRect l="0" t="10671" r="0" b="6665"/>
          <a:stretch/>
        </p:blipFill>
        <p:spPr>
          <a:xfrm>
            <a:off x="4876920" y="4213080"/>
            <a:ext cx="4267080" cy="264492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1261062421_74be7e042e84"/>
          <p:cNvPicPr/>
          <p:nvPr/>
        </p:nvPicPr>
        <p:blipFill>
          <a:blip r:embed="rId2"/>
          <a:srcRect l="0" t="0" r="0" b="18370"/>
          <a:stretch/>
        </p:blipFill>
        <p:spPr>
          <a:xfrm>
            <a:off x="0" y="4199040"/>
            <a:ext cx="434340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од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включают в себя ресурсы пресных и соленых вод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моря, океаны, реки, озера, водохранилищ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7" name="Picture 4" descr="e4ab3d98134d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2770200"/>
            <a:ext cx="6248520" cy="40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Биологическ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все живые средообразующие компоненты биосферы, т.е. организ­мы, которые являются объектами промысл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ресурсы животного мира, растительного мир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0" name="Picture 4" descr="1172780055_23"/>
          <p:cNvPicPr/>
          <p:nvPr/>
        </p:nvPicPr>
        <p:blipFill>
          <a:blip r:embed="rId1"/>
          <a:srcRect l="0" t="0" r="0" b="4762"/>
          <a:stretch/>
        </p:blipFill>
        <p:spPr>
          <a:xfrm>
            <a:off x="0" y="3701880"/>
            <a:ext cx="4419720" cy="31561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5" descr="pandas_04"/>
          <p:cNvPicPr/>
          <p:nvPr/>
        </p:nvPicPr>
        <p:blipFill>
          <a:blip r:embed="rId2"/>
          <a:srcRect l="0" t="0" r="0" b="6868"/>
          <a:stretch/>
        </p:blipFill>
        <p:spPr>
          <a:xfrm>
            <a:off x="4419720" y="3718080"/>
            <a:ext cx="4724280" cy="31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сурсы Мирового океан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это комплексное использование всех ресурсов океан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мер: морская вода, биологические, энергетические и ресурсы дн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4" descr="ocean"/>
          <p:cNvPicPr/>
          <p:nvPr/>
        </p:nvPicPr>
        <p:blipFill>
          <a:blip r:embed="rId1"/>
          <a:srcRect l="0" t="24446" r="0" b="0"/>
          <a:stretch/>
        </p:blipFill>
        <p:spPr>
          <a:xfrm>
            <a:off x="1447920" y="3710160"/>
            <a:ext cx="6248160" cy="31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креацион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природные ресурсы, обеспечивающие отдых, восстановление здоровья и трудоспособности человек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территории для отдыха, лечения, туризм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Picture 4" descr="b30180a0b059"/>
          <p:cNvPicPr/>
          <p:nvPr/>
        </p:nvPicPr>
        <p:blipFill>
          <a:blip r:embed="rId1"/>
          <a:srcRect l="0" t="23339" r="0" b="8331"/>
          <a:stretch/>
        </p:blipFill>
        <p:spPr>
          <a:xfrm>
            <a:off x="1523880" y="3733920"/>
            <a:ext cx="60962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76176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ЗАПОЛНИТЕ ТАБЛИЦУ </a:t>
            </a:r>
            <a:br>
              <a:rPr sz="4000"/>
            </a:b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«ПРИРОДНЫЕ РЕСУРСЫ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609480" y="2362320"/>
          <a:ext cx="8229600" cy="3681360"/>
        </p:xfrm>
        <a:graphic>
          <a:graphicData uri="http://schemas.openxmlformats.org/drawingml/2006/table">
            <a:tbl>
              <a:tblPr/>
              <a:tblGrid>
                <a:gridCol w="2057400"/>
                <a:gridCol w="3429000"/>
                <a:gridCol w="2743200"/>
              </a:tblGrid>
              <a:tr h="118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Определени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При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оизводственные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природные ресурсы, используемые в промышленности или сельском хозяйстве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514"/>
                          </a:solidFill>
                          <a:latin typeface="Garamond"/>
                        </a:rPr>
                        <a:t>Земельные, минеральные ресурсы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deec"/>
                    </a:solidFill>
                  </a:tcPr>
                </a:tc>
              </a:tr>
              <a:tr h="118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f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лиматическ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ресурсы, преимущественно внешние по отношению к планете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энергия солнца, недр, ветра, влажность и т.д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Picture 4" descr="6f4a0ca91a2aad09ec968340b2fabd23"/>
          <p:cNvPicPr/>
          <p:nvPr/>
        </p:nvPicPr>
        <p:blipFill>
          <a:blip r:embed="rId1"/>
          <a:stretch/>
        </p:blipFill>
        <p:spPr>
          <a:xfrm>
            <a:off x="1828800" y="3157560"/>
            <a:ext cx="556272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ищевые ресурс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те природные тела, которые на данном уровне развития производительных сил и изученности пищевых свойств могут использоваться человеком для удовлетворения своих потребностей в питании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3" name="Picture 4" descr="1273571619_allday"/>
          <p:cNvPicPr/>
          <p:nvPr/>
        </p:nvPicPr>
        <p:blipFill>
          <a:blip r:embed="rId1"/>
          <a:srcRect l="0" t="6692" r="0" b="10976"/>
          <a:stretch/>
        </p:blipFill>
        <p:spPr>
          <a:xfrm>
            <a:off x="1828800" y="3684600"/>
            <a:ext cx="518148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астительного происхожд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зерновые, клубнеплоды, корнеплоды, фрукты, ягоды, овощи, сахароносные, масличные, зернобобовые, тонизирующие и другие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пшеница, рис, персики, арбузы, сахарный тро­стник, подсолнечник, фасоль, горох, чай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6" name="Picture 4" descr="1236071129_qargidali"/>
          <p:cNvPicPr/>
          <p:nvPr/>
        </p:nvPicPr>
        <p:blipFill>
          <a:blip r:embed="rId1"/>
          <a:srcRect l="0" t="14669" r="0" b="7998"/>
          <a:stretch/>
        </p:blipFill>
        <p:spPr>
          <a:xfrm>
            <a:off x="2057400" y="4073400"/>
            <a:ext cx="4800600" cy="27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Животного происхождени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88390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мясо, мясные продукты, молоко, молочные продукты, яйца, птица, рыба, рыбий жир, морепродукты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свинина, говядина, куры, гуси, омары, креветки, миди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9" name="Picture 4" descr="0_c291_bb0e3b0_XL"/>
          <p:cNvPicPr/>
          <p:nvPr/>
        </p:nvPicPr>
        <p:blipFill>
          <a:blip r:embed="rId1"/>
          <a:stretch/>
        </p:blipFill>
        <p:spPr>
          <a:xfrm>
            <a:off x="4800600" y="3600360"/>
            <a:ext cx="4343400" cy="325764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5" descr="71949596ec94"/>
          <p:cNvPicPr/>
          <p:nvPr/>
        </p:nvPicPr>
        <p:blipFill>
          <a:blip r:embed="rId2"/>
          <a:stretch/>
        </p:blipFill>
        <p:spPr>
          <a:xfrm>
            <a:off x="0" y="3591000"/>
            <a:ext cx="495288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интетические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это новый нетрадиционный способ производства искусственных продуктов питания на основе натурального природного белк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Picture 4" descr="7eeaf4e847"/>
          <p:cNvPicPr/>
          <p:nvPr/>
        </p:nvPicPr>
        <p:blipFill>
          <a:blip r:embed="rId1"/>
          <a:stretch/>
        </p:blipFill>
        <p:spPr>
          <a:xfrm>
            <a:off x="5257800" y="3943440"/>
            <a:ext cx="3886200" cy="29145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ripening-soya-beans-in-field-n"/>
          <p:cNvPicPr/>
          <p:nvPr/>
        </p:nvPicPr>
        <p:blipFill>
          <a:blip r:embed="rId2"/>
          <a:stretch/>
        </p:blipFill>
        <p:spPr>
          <a:xfrm>
            <a:off x="0" y="3660840"/>
            <a:ext cx="48006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иродные ресурс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-   это элементы природы (объекты и явления), необходимые человеку для его жизнеобеспечения и вовлекаемые им в материальное производство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6" name="Picture 5" descr="Природные рекреационные ресурсы - Природные ресурсы - Научная и занимательная география - Merzlota.ru"/>
          <p:cNvPicPr/>
          <p:nvPr/>
        </p:nvPicPr>
        <p:blipFill>
          <a:blip r:embed="rId1"/>
          <a:stretch/>
        </p:blipFill>
        <p:spPr>
          <a:xfrm>
            <a:off x="1143000" y="2549520"/>
            <a:ext cx="6629400" cy="43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роизводствен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природные ресурсы, используемые в промышленности или сельском хозяйстве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Земельные ресурсы, минеральные ресурсы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59" name="Picture 4" descr="soil1"/>
          <p:cNvPicPr/>
          <p:nvPr/>
        </p:nvPicPr>
        <p:blipFill>
          <a:blip r:embed="rId1"/>
          <a:stretch/>
        </p:blipFill>
        <p:spPr>
          <a:xfrm>
            <a:off x="0" y="3238560"/>
            <a:ext cx="9144000" cy="36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дравоохраните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природные ресурсы, обеспечивающие отдых, восстановление здоровья и трудоспособности человек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рекреационные (минеральные воды, грязелечение)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2" name="Picture 4" descr="mud-therapy-in-crimea"/>
          <p:cNvPicPr/>
          <p:nvPr/>
        </p:nvPicPr>
        <p:blipFill>
          <a:blip r:embed="rId1"/>
          <a:stretch/>
        </p:blipFill>
        <p:spPr>
          <a:xfrm>
            <a:off x="4038480" y="3460680"/>
            <a:ext cx="5105520" cy="33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Эстетически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это сочетание естественных ресурсов, положительно воздействующих на духовные богатства человек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природа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5" name="Picture 4" descr="0_bf31_551683be_XL"/>
          <p:cNvPicPr/>
          <p:nvPr/>
        </p:nvPicPr>
        <p:blipFill>
          <a:blip r:embed="rId1"/>
          <a:stretch/>
        </p:blipFill>
        <p:spPr>
          <a:xfrm>
            <a:off x="2971800" y="3000240"/>
            <a:ext cx="6172200" cy="38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Науч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- это природные ресурсы, исполь­зуемые человеком в научной деятельност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мер: уран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68" name="Picture 4" descr="uranium-highly-enriched"/>
          <p:cNvPicPr/>
          <p:nvPr/>
        </p:nvPicPr>
        <p:blipFill>
          <a:blip r:embed="rId1"/>
          <a:stretch/>
        </p:blipFill>
        <p:spPr>
          <a:xfrm>
            <a:off x="3962520" y="2712960"/>
            <a:ext cx="5181480" cy="41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Реа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природные ресурсы, исполь­зуемые в настоящее время человеком в произ­водственной деятельност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минеральные (руды, топливо и др.), лесные ресурсы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1" name="Picture 4" descr="1247462920_orman-resmi-5"/>
          <p:cNvPicPr/>
          <p:nvPr/>
        </p:nvPicPr>
        <p:blipFill>
          <a:blip r:embed="rId1"/>
          <a:srcRect l="0" t="9335" r="0" b="8000"/>
          <a:stretch/>
        </p:blipFill>
        <p:spPr>
          <a:xfrm>
            <a:off x="4038480" y="3692520"/>
            <a:ext cx="510552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тенциальные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- это природные ресурсы, неиспользуемые в настоящее время или используемые в недостаточной степени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Garamond"/>
              </a:rPr>
              <a:t>Пример: энергия морских течений, термического градиента океана.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4" name="Picture 4" descr="deltastreamturbine-001"/>
          <p:cNvPicPr/>
          <p:nvPr/>
        </p:nvPicPr>
        <p:blipFill>
          <a:blip r:embed="rId1"/>
          <a:stretch/>
        </p:blipFill>
        <p:spPr>
          <a:xfrm>
            <a:off x="3581280" y="3521160"/>
            <a:ext cx="5562720" cy="33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21-09-13T04:08:28Z</dcterms:modified>
  <cp:revision>3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